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E85A-CF8A-4508-97C7-2636E74FB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FE94-9869-4FCF-BF76-BFDE7BD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E9A6F-24EA-4538-A13B-B74C6EB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E61FBD-4B8D-493B-A684-A72DD475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FFCF1-16BB-426B-880F-E6AE1452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0EB7C-ABAF-4FF1-ACFF-08109B9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2E15B-5B3D-482E-9E25-2AF1FAD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9D3D27-3BDE-4255-BDE7-0CAE1CF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5F905-87DC-401D-9D74-36CFD32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9AF16-62B6-4C28-B235-F4781CE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B9E68D-9C6D-43CC-9086-805104978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251B-44DD-4E6B-9592-147EF8A8E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0F1D-C397-4250-89A7-F38CC8A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BEB3-1ADF-4B4A-BF14-7BCD4C5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6B052-B42B-4EB1-B67F-E148E29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7644-21E5-4CF7-9AF7-F7E1BFF5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2F22-992B-42B6-8F1F-B899F0D3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4FA0-F369-464A-91E7-8A6094CB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55F96-CA36-4E66-8725-DBF8B6E3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31072-52A1-4CE1-A380-4E82EF3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CEF66-8F53-49F8-A8FC-D59D0BCB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F85E-5EBF-4790-B79E-473A190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AD85E-AB07-478D-B40D-2C320A3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1838-CD8A-40DD-A1D0-8BA8F556B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18F21-6F51-4FA2-A7F9-A2CE7C3F3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6E030-6E86-4BDB-9852-66B08B213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AFBA42-63D2-4B59-9696-DF4DEC1D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050C8-D48B-4AA3-9028-40C7378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4CAD8-A480-44E9-95FA-302A8A4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3C735-3ADB-4D94-90EF-1B5850D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2E3D4-41D0-4452-B80B-0F1E0739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D9250-BF73-4818-AE39-F8CC03BB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9B8D9-0533-46A6-B216-ECC21B4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765A4-C8D2-43DA-A062-8A483D6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B2BC2-86B9-4E92-B25E-09952D3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263EC-59A5-4938-B1E9-0BA0508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85FEA-3665-4702-9BEB-2D609A0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2B0BC7-E59D-4EA0-8B7E-257E6D3DB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A3EF3-490C-4A55-86DC-0F81EF790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A749F-6393-44A5-A306-2A19F6C6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E3FA3-429F-402D-8B60-72237831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87096-D4FC-40C2-97E8-39D3BD0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2B85E-C21E-4A44-A7CC-40255075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ECE19-A7D7-4683-B9D7-EAF632CA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C0A2B-4321-4F14-BE44-627BCE8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6904-306F-49D2-9450-B3255FFE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D9D82-40D9-4FE2-A065-21FDB1FB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4F535-D775-4192-A2A7-7486D8B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7BCC8-3D65-4042-B4BB-79E71A7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F3993-4E29-49B3-815F-84DAE98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F46DF-9188-4785-9164-D60A2BAA7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735DD-269A-4F1E-9FB6-20A8C6A7E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E308-B260-4DD5-85FD-C9B0A5B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965E1-D5B2-4AD2-9724-1EB41A7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C12F2-E2B0-45B7-B3B9-ADBEA771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2D439-8350-4BE0-8949-CF365579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67814-B029-42A3-A7E6-2F4C481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B8243-BB3F-4079-BA3F-68BE0D05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E7753-ED50-4A66-B3A7-4BB51F7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BD10-AE68-4C98-B836-9D37491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8DEA-1054-44C0-A387-0A3EBE2E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4B3AE-8AA0-4D7B-B3A7-BB8DF5C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D1F91-F4B8-4490-BE4B-9523497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F25F3-B522-4870-AE12-C02ACEE96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9FC1B-FFD4-4B78-B225-21D50B8B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EA591-25EF-4663-834A-BB2AA0F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21DEB-362D-4007-9F68-D7A3960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2B5C-81D6-4BAA-B8B3-4778C128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5BEC2-7724-4D5A-BEEA-42620AE8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BB799-8854-4DD5-9470-F4213F8B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0A78B-BABA-49B1-B969-28F845B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A6647-AC1B-4023-A913-07FEFC2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68B73-EF7B-4425-94E5-68F6B8C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F0D31-B108-495B-AC03-6D76A92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B25AE-B22B-40AE-8F86-93C8780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F54CD-E3AC-4830-A9E7-F2E15FC7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29F4F-777D-410C-B5A2-0D27EE2E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73A91-E60A-41F4-BE86-4AD07EC2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642A-6785-4DD3-8A11-C7741E2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5F2F-49A7-445E-8BA4-CA6C591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A06E3-6483-4920-A281-149BB54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71386-F6A9-422E-982C-AB792BB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C15E-5A5E-43F0-A364-4F7FFC4D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E19F7-7B71-4512-A1FB-CC50D92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F04D-8CC6-43E4-B20B-02C1ACF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6ADF-EAF4-4F50-AD53-086CED3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33E00-0E60-4367-80BA-2BA82A7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E7FBB-7400-4F32-A2C0-D7ED69D4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E49EB-542D-4B4A-9542-C316F453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0C0A6-0F6C-4D99-853F-1F2C1F39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2804-4218-466D-9D98-33C9C911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0E517-0CD8-4AA0-86FA-15B30BA7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F9FDC-15FC-463D-A76D-DAEC833A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253FB-CBF1-4D9A-AEC8-27B7941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70AD3-03FE-41EA-AF72-9208319C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0FF1C-2CA5-4CB8-A05F-03C5D1C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E7404-F158-4197-8AA9-8479E31F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06032-5792-4224-9CF2-16CECA7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6C781-52B0-40C8-A035-2E7A0B9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EDC34-7212-43C2-8346-01559EA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DB415-4E35-4803-BFB5-9A47241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CFD8D-89A0-45C0-9E8E-931281D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814B0-6EA5-4A9B-B3E0-E1872E51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6CDAE-A666-4914-8392-B8650195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055FD-1B7A-4A75-897E-EDD6CE43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A24E4-4445-45FF-BBBC-6E5BAB47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93471-77A6-45AF-A74F-030D041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0C4B1-AD48-43E0-89CA-A11AA37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BB3B0-2C2C-40AA-98F4-BF721AC4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EFD82-0663-4D80-A3AB-B1EAA791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D7BAF-72DE-409F-B920-AA7F4C0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A161-7822-45D0-90FA-A9FCAFB0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19D25-CA9D-4571-9B29-EEF7168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2CE1A-7F47-4E65-8022-3BF92D8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554BA-2B51-44F7-9DB1-BDA44BC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995AB-121A-4AFF-A077-06CC030B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2D134-396B-487B-A5A4-3CE27477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D7386-9B15-4B93-A712-46F0267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4587A-4D04-4010-8020-08ACF3F0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8E922-984F-4A75-AAE8-0C6F1007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956D6-6839-44FA-A038-30AC6E82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3D2C9-5C64-4C74-8686-02BD9AC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5B9EE-3966-4911-91C7-489E67A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7D219-3606-4DEC-982A-6F40F2D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D1DFA-144F-4585-A5E1-EE5F7F34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E070D-9C42-432E-BCFD-1EAC7CA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265AB-7EBF-4DD2-9F28-E63FD8A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CCEFF-3EF1-43B3-B3A3-ECD9F11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D74D-3F46-4922-8F2C-0CFDD73F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AE769-7801-4FAF-9102-CFB7715C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85C95-AB56-4829-8CAB-F027534D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AAC03-055F-470A-B3AE-2890A104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22309-B89A-49C9-869C-E95AE26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D522B-9111-4665-857C-7A525280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1395-1E3A-4A8A-A0BF-5FF4B17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9CD09-2A7F-471A-B3B6-6EAA6DA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2B729-2601-4055-8997-9A5F5916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2E77C-4811-4F03-9EA3-1B6BE0B4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64267-86A0-471B-A4BF-B001AE6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54BB2-E91D-4085-9921-E2B480E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AEA0C-7667-408A-B356-BC5F892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1CEE0-4A49-442B-A0BC-96F61A3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708D0-1D9D-4803-8AAF-78687D67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520E6-2BB0-47E3-848A-4AD5578F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8FB27-9135-4CAB-A3C4-E0712D53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CF2E-86CC-435E-A0B0-A6D951F0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16A54-5C1D-45E0-A58F-5951385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4BD90-54B1-4C03-9711-34B89F4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B7A28-A338-40A6-946F-EDB746DB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73E22-2FDA-4F6A-BB86-53DA564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5AC23-0FF2-4F35-98EE-9A02DA64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A8DA8-BE91-407F-9397-523A3B2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E0BF0-9EDA-43C5-BA64-2304FF4A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96909-21B5-4B2E-AB22-8379927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049C2-96EF-4E3B-95A4-93B4574B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E6FD2-CDB8-4D7F-B73F-8AE8603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A786A-26F8-4D7A-9C4B-2B1EFA6F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8CAB2-C197-4678-B222-DA907EB5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6C112-49FF-496E-B41C-CAD78F1E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5A6EA-FCDB-4B7E-84DB-87DEEF0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084AB-2E7D-4FC1-B76B-19B1B50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32B1C-EAE7-40CB-BEE4-01B67D6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5C93E-EB3F-45FF-8E09-E73DEF3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CF08C-AE88-4C96-A039-75A6F1D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352C0-87AE-4EF1-AB35-9CC1A7A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2ABDD-601C-488B-8F2F-3DE9742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90810-2177-4AA3-BC4D-A7E8CB1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02241-0553-4D3A-B3F5-EF8A2AA05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C5E01-CCB9-4CF6-9E8A-8B51748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1C95A-7D30-4280-80D5-662F49A4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0AAFD-5E5F-4798-87E9-B570985D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CAB4D-3E93-4BBD-9688-DF3BF15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71AA6-4FF8-47BC-ABD8-4905D13F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2FC0D-9597-4C45-864F-3CCBF7B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FCB20-A5B7-454A-A502-9F929EE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8D53C-E835-49A9-BBE1-150A6218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01A52-7A8A-4224-9D6B-8633191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44B6B-099F-442A-88E7-311D5B5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8EE04-36AF-4CF5-B0BD-DE5FE220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28542-202E-4468-B1C7-E885DE0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5D749-3071-40A7-99C8-D9F882B7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51354-A012-4B40-9417-28C376A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36B6A-5D2B-40BA-A9C2-F9151B1B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49636-7C7A-4B79-9FEA-CD0CC45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C0939-0E0F-494F-B89F-03E7AFE6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8AE45-3AF6-4513-AE81-A4CDCBC5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3CBC61-C37A-46A2-AE4F-CDFDA9B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CC542-ED2A-4E3C-ABF2-ABEF99F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614F7-6442-481A-9A8D-0E513D3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BD57B-B0E8-4007-A30F-30C36D3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B12EE-EB42-4AAD-A5C8-B57C89F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D034F-9213-4A82-AA6D-9B5CDE8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B6A4A-0C5F-4D2F-910A-9CA6DAB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8B446-7755-42B5-A6A9-61D3EB3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0EFA1-D523-4097-9751-D50F03D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F73A9-5E5F-49B8-97E3-A01B1C99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43EA7-332C-4457-981A-8F6C5342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5E860-6E9F-4B53-B0AB-962EFDAF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0B422-8FA5-4983-AC4B-C9A23A85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4B9C3-266B-4D08-8A2F-DA72B3D4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0324D-431B-460C-AB47-706FEBF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9000B-F777-4DD0-B2E0-2E6BF1C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FFBF3-315F-4AE5-A065-41C193AE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B4888-7344-4347-BEB7-7F0951B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6AB1C-B218-49CB-B532-CF7371D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07E22-6237-4CAC-AC9E-1B6E7EC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DF0FE-30D1-4033-9366-D547B01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BA500-B0CF-43ED-B968-9F29E1C2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74A01-73A3-4D13-A931-9790DBEA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7D8AB-4972-49C2-93D9-06059B4C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418C3-D052-4B1A-AD50-649A8D67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FA27-D640-4A71-B1AE-9C3C58B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80EB3-51E2-4442-A233-80863794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79339-0CA0-41A7-95FE-6F86182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CD4B6-5606-476B-80DE-3C2DF9FE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049BF-1843-4430-9C7F-D2F222B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822C2-011B-4CCE-AE1A-562468EA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04248-6C8F-4F52-BD14-48F5583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1B326-1302-4FCA-9EC1-C9257C0DB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1A9A-C4AC-43C8-9535-1B935E357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6185-75FA-481D-BAB8-30C174B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4C0A-80AD-4763-9FAD-0641586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CFB2-202A-4883-A40B-D164E60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C0C9-6593-4792-A922-C91F0E9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DC8E-1045-42DA-9C6E-0E67C22E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9A9C-E81C-4452-8915-B0838892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67D3-4775-452B-8984-3C0382A9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EB74-B4D2-4F6F-AA1B-70BB059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F104-B766-4D52-8DBC-8F4F7433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D1D0-CF90-4EF5-AAF1-A334D6A9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BC62-0C81-4DC5-9707-E0EBF32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D5E5-6A84-4B66-B7E6-486A91EAC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BB920-7BC1-4664-BCE6-5409B0A9D7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A9C2-B974-4DF4-8A87-A0A67EE1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EA821-3AE5-4DF3-8D8F-DC80BF31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31D3D-52F4-42FC-894F-D65409D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F4558-1924-4CCE-9F9B-E49BA382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E2550-FDBD-4ECA-8151-0669DC0A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36811-14C1-4A6E-8173-AA041A4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5E7B3-B393-4526-A3E3-9F256A6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99A2A-FF66-481F-A9FC-D2F09984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C388A-9FB4-4340-A6F2-7068CE6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70451-A661-4C94-AD8A-FEDFEE9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8C287-2A12-4153-B06F-446F1DD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D415-E7D7-4029-B541-32395A89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B771F-8AB2-4D3E-B09D-154C6754E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886F2-BC97-4357-870A-7A0AD5691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091B9-191F-487D-ADE1-C8CB813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50EA4-1F28-4F59-A6E6-9C2E3C4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EB6B8-CEBB-4E5C-A0CF-2947A2D1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EEDD0-CA7B-400B-8273-9D6E3859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65ED2-FFE2-4038-AC41-F9DC0E99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060A8-198A-469C-9F80-8DD26B2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3DB449-ABE0-457C-B551-B06018F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97D17-C2C3-4245-AF24-2F4153E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DE94-884A-431D-81CB-29C60D6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58D37-8345-43CE-A854-39A71A60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E839E-3510-44E7-8641-A21BA8B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0282C-100D-4C43-9118-F5D08850D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16C1-F44F-474E-8FCF-216B95E37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D5B0-75F7-4C41-878F-0D90694B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C6B8-350D-4B8B-B9E5-6B3F23F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4738-184A-4371-89F5-8BE438CE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424D-92CE-426D-A017-DEC477F4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DCDE-3C41-4359-B5D2-5BF6588A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6495-0540-434B-BD58-97FAD9DF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D94A-BBDD-4EB9-993C-D342414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2728-E502-4723-976A-7B9D71C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F58D-32D9-4122-89C6-8416282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A011-7166-49F7-91C5-B9EC81E1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73C3-801C-41FA-BE1A-28B9B5E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9D3B-FCBA-484F-BC47-5EFD2A58F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3CA85-4BD8-4E07-BA19-2E58E520E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CE78B-34CF-46F9-BC3A-633C1D8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B3F9D-9996-42DE-ABFC-0340412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D9AF3-8427-43A5-80A0-85CCAA0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CFE85-CD06-4368-A597-735B5088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34AD-05CA-4074-9561-0F0BF54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C09BA-9D31-484A-B05E-A28A70B9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1D8C0-1D08-4970-9885-BDC70CF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42A4B-7F31-44C3-9AC7-2CB58EE3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8C139-95BF-4A18-A102-5036EE5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2A4DF-FB2F-4C1F-8336-37D69C08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CC244-59E9-4145-87EB-5DC9378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47566-153E-42A0-98E5-989C96994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F75813-3C1A-4DC3-A9D3-B509E8BF6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222CE7-F53C-422E-8843-3FB3E79A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1A778-CBD4-43B6-89DD-A1F9AD5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F6A-A99A-4E02-A918-F54BDBDD7F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B4C-34B1-453B-A6F3-596E4D7B2C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72C-DCE2-47F7-AAA7-701F84BD95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074-9F63-4A29-8F40-7DD0BD24E6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A57-0C0A-4890-B6E7-945B63F09E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0F4-9A6F-49F7-9EFE-BB734BA9BE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0C22-2339-469E-BAF7-767D5EEF92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F933-C4ED-4667-853C-80F63E10BF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834-34F1-4744-9A94-F83C1AB56B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17CA-7F61-4D01-BC3D-2E07C0B7D9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A90-7892-41D3-803F-0B0FAD6F13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F8F-C76C-4A56-9227-E8C38F323B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DC34-4EF7-4108-9845-235F88C9E7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CCE3-29EC-43ED-B652-E78185A832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1763-3704-4D60-B4EB-F77C1C19A63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C3F-620B-4653-9022-9EFF08E68B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BC54-FFA4-4A51-B76B-66079B8052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4D1-1817-4942-962B-F084BB0F2A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67BE-C98C-4F0B-A680-5048D4C4C8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D2AF-4FAA-446B-AFEC-89104CF839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311-41D9-45D9-9830-E0FD0340B0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A5D-76DC-4E4E-9260-8F3AF0F17A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8EC5-B29E-43C8-A894-C528423692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558-1F61-4FCB-8146-42CC47661D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77156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线 段、直 线、射 线 和 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2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32"/>
          <p:cNvSpPr/>
          <p:nvPr/>
        </p:nvSpPr>
        <p:spPr>
          <a:xfrm>
            <a:off x="210960" y="87948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线段有两个端点，长度有限，不能延伸；射线有一个端点，可以向一段无限延伸；直线没有端点，可以向两端无限延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32"/>
          <p:cNvSpPr/>
          <p:nvPr/>
        </p:nvSpPr>
        <p:spPr>
          <a:xfrm>
            <a:off x="193680" y="244152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一点引出两条射线所组成的图形叫做角。这一点是角的顶点，这两条射线是角的边。角有一个顶点和两条边，角的两边可以无限延伸。角通常用符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∠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来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99"/>
          <p:cNvSpPr/>
          <p:nvPr/>
        </p:nvSpPr>
        <p:spPr>
          <a:xfrm>
            <a:off x="187200" y="703440"/>
            <a:ext cx="8445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　）可以量出长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直线　　  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射线　　     　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两条边是（　　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直线　　 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射线　　　     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线有（　　）个端点，射线有（　　）个端点，线段有（　　）个端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　　 　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　　    　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经过平面上的任意两点，可以画（    ）条直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        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         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 无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12"/>
          <p:cNvSpPr/>
          <p:nvPr/>
        </p:nvSpPr>
        <p:spPr>
          <a:xfrm>
            <a:off x="1380960" y="128412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1"/>
          <p:cNvSpPr/>
          <p:nvPr/>
        </p:nvSpPr>
        <p:spPr>
          <a:xfrm>
            <a:off x="2919240" y="220824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2"/>
          <p:cNvSpPr/>
          <p:nvPr/>
        </p:nvSpPr>
        <p:spPr>
          <a:xfrm>
            <a:off x="2128680" y="311616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3"/>
          <p:cNvSpPr/>
          <p:nvPr/>
        </p:nvSpPr>
        <p:spPr>
          <a:xfrm>
            <a:off x="4933800" y="312264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4"/>
          <p:cNvSpPr/>
          <p:nvPr/>
        </p:nvSpPr>
        <p:spPr>
          <a:xfrm>
            <a:off x="7723080" y="312120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6"/>
          <p:cNvSpPr/>
          <p:nvPr/>
        </p:nvSpPr>
        <p:spPr>
          <a:xfrm>
            <a:off x="4954680" y="4483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5410080" cy="525600"/>
            <a:chOff x="0" y="101520"/>
            <a:chExt cx="54100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0360" y="101520"/>
              <a:ext cx="51397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723960" cy="273960"/>
              <a:chOff x="0" y="196560"/>
              <a:chExt cx="723960" cy="27396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83680" y="34848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27864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3680" y="21204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320" y="20592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8908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072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4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手.jpg"/>
          <p:cNvPicPr/>
          <p:nvPr/>
        </p:nvPicPr>
        <p:blipFill>
          <a:blip r:embed="rId8"/>
          <a:stretch/>
        </p:blipFill>
        <p:spPr>
          <a:xfrm>
            <a:off x="339840" y="1000080"/>
            <a:ext cx="2035080" cy="1441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2" descr="D:\我的文档-桌面-收藏夹\桌面\手.jpg"/>
          <p:cNvPicPr/>
          <p:nvPr/>
        </p:nvPicPr>
        <p:blipFill>
          <a:blip r:embed="rId9"/>
          <a:stretch/>
        </p:blipFill>
        <p:spPr>
          <a:xfrm>
            <a:off x="3125880" y="1063800"/>
            <a:ext cx="2022480" cy="143316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1625760" y="1639800"/>
            <a:ext cx="2286000" cy="360"/>
            <a:chOff x="1625760" y="1639800"/>
            <a:chExt cx="2286000" cy="360"/>
          </a:xfrm>
        </p:grpSpPr>
        <p:sp>
          <p:nvSpPr>
            <p:cNvPr id="1012" name="直接连接符 9"/>
            <p:cNvSpPr/>
            <p:nvPr/>
          </p:nvSpPr>
          <p:spPr>
            <a:xfrm>
              <a:off x="1625760" y="1639800"/>
              <a:ext cx="2286000" cy="0"/>
            </a:xfrm>
            <a:prstGeom prst="line">
              <a:avLst/>
            </a:prstGeom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1625760" y="1639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21"/>
          <p:cNvSpPr/>
          <p:nvPr/>
        </p:nvSpPr>
        <p:spPr>
          <a:xfrm>
            <a:off x="1674720" y="11736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"/>
          <p:cNvSpPr/>
          <p:nvPr/>
        </p:nvSpPr>
        <p:spPr>
          <a:xfrm>
            <a:off x="179280" y="5437080"/>
            <a:ext cx="9144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为了表述方便，可以用字母来表示线段，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线段</a:t>
            </a:r>
            <a:r>
              <a:rPr b="1" lang="en-US" sz="28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14" descr="19"/>
          <p:cNvPicPr/>
          <p:nvPr/>
        </p:nvPicPr>
        <p:blipFill>
          <a:blip r:embed="rId10"/>
          <a:stretch/>
        </p:blipFill>
        <p:spPr>
          <a:xfrm>
            <a:off x="6197760" y="500040"/>
            <a:ext cx="1879560" cy="2163960"/>
          </a:xfrm>
          <a:prstGeom prst="rect">
            <a:avLst/>
          </a:prstGeom>
          <a:ln w="0">
            <a:noFill/>
          </a:ln>
        </p:spPr>
      </p:pic>
      <p:sp>
        <p:nvSpPr>
          <p:cNvPr id="1017" name="矩形 18"/>
          <p:cNvSpPr/>
          <p:nvPr/>
        </p:nvSpPr>
        <p:spPr>
          <a:xfrm>
            <a:off x="0" y="2643120"/>
            <a:ext cx="8715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根拉紧的线、绷紧的弦，都可以看作是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11" descr="E:\2017秋上·黄倩\其他\人\海豚.jpg海豚"/>
          <p:cNvPicPr/>
          <p:nvPr/>
        </p:nvPicPr>
        <p:blipFill>
          <a:blip r:embed="rId11"/>
          <a:stretch/>
        </p:blipFill>
        <p:spPr>
          <a:xfrm>
            <a:off x="474840" y="4016520"/>
            <a:ext cx="901440" cy="109512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17"/>
          <p:cNvSpPr/>
          <p:nvPr/>
        </p:nvSpPr>
        <p:spPr>
          <a:xfrm>
            <a:off x="285840" y="3143160"/>
            <a:ext cx="3286080" cy="609840"/>
          </a:xfrm>
          <a:prstGeom prst="wedgeRoundRectCallout">
            <a:avLst>
              <a:gd name="adj1" fmla="val -31703"/>
              <a:gd name="adj2" fmla="val 85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3"/>
          <p:cNvSpPr/>
          <p:nvPr/>
        </p:nvSpPr>
        <p:spPr>
          <a:xfrm>
            <a:off x="1786320" y="320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线段有两个端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3"/>
          <p:cNvSpPr/>
          <p:nvPr/>
        </p:nvSpPr>
        <p:spPr>
          <a:xfrm>
            <a:off x="2684520" y="478476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4"/>
          <p:cNvSpPr/>
          <p:nvPr/>
        </p:nvSpPr>
        <p:spPr>
          <a:xfrm>
            <a:off x="5770440" y="478476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746080" y="4812840"/>
            <a:ext cx="3097440" cy="360"/>
            <a:chOff x="2746080" y="4812840"/>
            <a:chExt cx="3097440" cy="360"/>
          </a:xfrm>
        </p:grpSpPr>
        <p:sp>
          <p:nvSpPr>
            <p:cNvPr id="1024" name="Line 5"/>
            <p:cNvSpPr/>
            <p:nvPr/>
          </p:nvSpPr>
          <p:spPr>
            <a:xfrm>
              <a:off x="2746440" y="481320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2746080" y="4812840"/>
              <a:ext cx="30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6"/>
          <p:cNvSpPr/>
          <p:nvPr/>
        </p:nvSpPr>
        <p:spPr>
          <a:xfrm>
            <a:off x="2397240" y="42814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5692680" y="42800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3259080" y="41353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Box 3"/>
          <p:cNvSpPr/>
          <p:nvPr/>
        </p:nvSpPr>
        <p:spPr>
          <a:xfrm>
            <a:off x="611280" y="787320"/>
            <a:ext cx="796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把线段向两端无限延伸，就得到一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611280" y="48499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直线除了可以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en-US" sz="3200" spc="-1" strike="noStrike">
                <a:solidFill>
                  <a:srgbClr val="6767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EU-B1X"/>
                <a:ea typeface="EU-B1X"/>
              </a:rPr>
              <a:t>表示，还可以用小写字母表示，如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1" lang="zh-CN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1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617400" y="3144960"/>
            <a:ext cx="901800" cy="1095120"/>
          </a:xfrm>
          <a:prstGeom prst="rect">
            <a:avLst/>
          </a:prstGeom>
          <a:ln w="0">
            <a:noFill/>
          </a:ln>
        </p:spPr>
      </p:pic>
      <p:sp>
        <p:nvSpPr>
          <p:cNvPr id="1032" name="AutoShape 17"/>
          <p:cNvSpPr/>
          <p:nvPr/>
        </p:nvSpPr>
        <p:spPr>
          <a:xfrm>
            <a:off x="500040" y="1787400"/>
            <a:ext cx="4000680" cy="1071720"/>
          </a:xfrm>
          <a:prstGeom prst="wedgeRoundRectCallout">
            <a:avLst>
              <a:gd name="adj1" fmla="val -34842"/>
              <a:gd name="adj2" fmla="val 66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3"/>
          <p:cNvSpPr/>
          <p:nvPr/>
        </p:nvSpPr>
        <p:spPr>
          <a:xfrm>
            <a:off x="714240" y="185904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直线没有端点，是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限长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"/>
          <p:cNvSpPr/>
          <p:nvPr/>
        </p:nvSpPr>
        <p:spPr>
          <a:xfrm>
            <a:off x="2890800" y="4429080"/>
            <a:ext cx="7308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"/>
          <p:cNvSpPr/>
          <p:nvPr/>
        </p:nvSpPr>
        <p:spPr>
          <a:xfrm>
            <a:off x="5915160" y="4429080"/>
            <a:ext cx="72720" cy="730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890440" y="4460400"/>
            <a:ext cx="3097440" cy="360"/>
            <a:chOff x="2890440" y="4460400"/>
            <a:chExt cx="3097440" cy="360"/>
          </a:xfrm>
        </p:grpSpPr>
        <p:sp>
          <p:nvSpPr>
            <p:cNvPr id="1037" name="Line 5"/>
            <p:cNvSpPr/>
            <p:nvPr/>
          </p:nvSpPr>
          <p:spPr>
            <a:xfrm>
              <a:off x="2890800" y="446076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 rot="10800000">
              <a:off x="2890440" y="4460400"/>
              <a:ext cx="30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Text Box 6"/>
          <p:cNvSpPr/>
          <p:nvPr/>
        </p:nvSpPr>
        <p:spPr>
          <a:xfrm>
            <a:off x="2603520" y="3925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5987880" y="3925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915160" y="4460760"/>
            <a:ext cx="1871640" cy="360"/>
            <a:chOff x="5915160" y="4460760"/>
            <a:chExt cx="1871640" cy="360"/>
          </a:xfrm>
        </p:grpSpPr>
        <p:sp>
          <p:nvSpPr>
            <p:cNvPr id="1042" name="Line 8"/>
            <p:cNvSpPr/>
            <p:nvPr/>
          </p:nvSpPr>
          <p:spPr>
            <a:xfrm>
              <a:off x="5915160" y="4460760"/>
              <a:ext cx="1871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5915160" y="446076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595160" y="4460760"/>
            <a:ext cx="1368720" cy="360"/>
            <a:chOff x="1595160" y="4460760"/>
            <a:chExt cx="1368720" cy="360"/>
          </a:xfrm>
        </p:grpSpPr>
        <p:sp>
          <p:nvSpPr>
            <p:cNvPr id="1045" name="Line 9"/>
            <p:cNvSpPr/>
            <p:nvPr/>
          </p:nvSpPr>
          <p:spPr>
            <a:xfrm flipH="1">
              <a:off x="1595160" y="446076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 txBox="1"/>
            <p:nvPr/>
          </p:nvSpPr>
          <p:spPr>
            <a:xfrm>
              <a:off x="1595520" y="44607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11"/>
          <p:cNvSpPr/>
          <p:nvPr/>
        </p:nvSpPr>
        <p:spPr>
          <a:xfrm>
            <a:off x="3665520" y="391176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946080" y="2701800"/>
            <a:ext cx="360" cy="360"/>
            <a:chOff x="946080" y="2701800"/>
            <a:chExt cx="360" cy="360"/>
          </a:xfrm>
        </p:grpSpPr>
        <p:sp>
          <p:nvSpPr>
            <p:cNvPr id="1049" name="Line 13"/>
            <p:cNvSpPr/>
            <p:nvPr/>
          </p:nvSpPr>
          <p:spPr>
            <a:xfrm>
              <a:off x="946080" y="27018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946080" y="2701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Text Box 10"/>
          <p:cNvSpPr/>
          <p:nvPr/>
        </p:nvSpPr>
        <p:spPr>
          <a:xfrm>
            <a:off x="5214960" y="3711600"/>
            <a:ext cx="2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Box 3"/>
          <p:cNvSpPr/>
          <p:nvPr/>
        </p:nvSpPr>
        <p:spPr>
          <a:xfrm>
            <a:off x="425520" y="857160"/>
            <a:ext cx="79628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把线段向一端无限延伸，就得到一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射线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500040" y="457200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射线可以用端点和射线上的另一点来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如射线</a:t>
            </a:r>
            <a:r>
              <a:rPr b="1" lang="en-US" sz="3200" spc="-1" strike="noStrike">
                <a:solidFill>
                  <a:srgbClr val="000000"/>
                </a:solidFill>
                <a:latin typeface="EU-B1X"/>
                <a:ea typeface="EU-B1X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11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617400" y="2928960"/>
            <a:ext cx="901800" cy="109548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17"/>
          <p:cNvSpPr/>
          <p:nvPr/>
        </p:nvSpPr>
        <p:spPr>
          <a:xfrm>
            <a:off x="500040" y="2071800"/>
            <a:ext cx="4000680" cy="609480"/>
          </a:xfrm>
          <a:prstGeom prst="wedgeRoundRectCallout">
            <a:avLst>
              <a:gd name="adj1" fmla="val -36796"/>
              <a:gd name="adj2" fmla="val 79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1987920" y="20718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Calibri"/>
                <a:ea typeface="宋体"/>
              </a:rPr>
              <a:t>射线只有一个端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"/>
          <p:cNvSpPr/>
          <p:nvPr/>
        </p:nvSpPr>
        <p:spPr>
          <a:xfrm>
            <a:off x="2484360" y="4148280"/>
            <a:ext cx="73080" cy="727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5508720" y="4148280"/>
            <a:ext cx="73080" cy="727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484360" y="4220640"/>
            <a:ext cx="3097440" cy="360"/>
            <a:chOff x="2484360" y="4220640"/>
            <a:chExt cx="3097440" cy="360"/>
          </a:xfrm>
        </p:grpSpPr>
        <p:sp>
          <p:nvSpPr>
            <p:cNvPr id="1060" name="Line 5"/>
            <p:cNvSpPr/>
            <p:nvPr/>
          </p:nvSpPr>
          <p:spPr>
            <a:xfrm>
              <a:off x="2484360" y="4221000"/>
              <a:ext cx="3097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 rot="10800000">
              <a:off x="2484360" y="4220640"/>
              <a:ext cx="30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Text Box 6"/>
          <p:cNvSpPr/>
          <p:nvPr/>
        </p:nvSpPr>
        <p:spPr>
          <a:xfrm>
            <a:off x="219708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5581800" y="36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508720" y="4221000"/>
            <a:ext cx="1871640" cy="360"/>
            <a:chOff x="5508720" y="4221000"/>
            <a:chExt cx="1871640" cy="360"/>
          </a:xfrm>
        </p:grpSpPr>
        <p:sp>
          <p:nvSpPr>
            <p:cNvPr id="1065" name="Line 8"/>
            <p:cNvSpPr/>
            <p:nvPr/>
          </p:nvSpPr>
          <p:spPr>
            <a:xfrm>
              <a:off x="5508720" y="4221000"/>
              <a:ext cx="1871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5508720" y="422100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Rectangle 12"/>
          <p:cNvSpPr/>
          <p:nvPr/>
        </p:nvSpPr>
        <p:spPr>
          <a:xfrm>
            <a:off x="3592440" y="3697200"/>
            <a:ext cx="12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射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539640" y="2421000"/>
            <a:ext cx="360" cy="360"/>
            <a:chOff x="539640" y="2421000"/>
            <a:chExt cx="360" cy="360"/>
          </a:xfrm>
        </p:grpSpPr>
        <p:sp>
          <p:nvSpPr>
            <p:cNvPr id="1069" name="Line 13"/>
            <p:cNvSpPr/>
            <p:nvPr/>
          </p:nvSpPr>
          <p:spPr>
            <a:xfrm>
              <a:off x="539640" y="2421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539640" y="2421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D:\我的文档-桌面-收藏夹\桌面\汽车灯.jpg"/>
          <p:cNvPicPr/>
          <p:nvPr/>
        </p:nvPicPr>
        <p:blipFill>
          <a:blip r:embed="rId1"/>
          <a:stretch/>
        </p:blipFill>
        <p:spPr>
          <a:xfrm>
            <a:off x="714240" y="321300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D:\我的文档-桌面-收藏夹\桌面\灯光.jpg"/>
          <p:cNvPicPr/>
          <p:nvPr/>
        </p:nvPicPr>
        <p:blipFill>
          <a:blip r:embed="rId2"/>
          <a:stretch/>
        </p:blipFill>
        <p:spPr>
          <a:xfrm>
            <a:off x="5353200" y="3354480"/>
            <a:ext cx="2933640" cy="23572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6"/>
          <p:cNvSpPr/>
          <p:nvPr/>
        </p:nvSpPr>
        <p:spPr>
          <a:xfrm>
            <a:off x="1979640" y="5643720"/>
            <a:ext cx="6715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些灯光都可以看作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射线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7" descr="027"/>
          <p:cNvPicPr/>
          <p:nvPr/>
        </p:nvPicPr>
        <p:blipFill>
          <a:blip r:embed="rId3"/>
          <a:stretch/>
        </p:blipFill>
        <p:spPr>
          <a:xfrm>
            <a:off x="3432240" y="430200"/>
            <a:ext cx="34290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2" descr="8"/>
          <p:cNvPicPr/>
          <p:nvPr/>
        </p:nvPicPr>
        <p:blipFill>
          <a:blip r:embed="rId1"/>
          <a:stretch/>
        </p:blipFill>
        <p:spPr>
          <a:xfrm>
            <a:off x="1619280" y="2060640"/>
            <a:ext cx="4464000" cy="269064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4"/>
          <p:cNvSpPr/>
          <p:nvPr/>
        </p:nvSpPr>
        <p:spPr>
          <a:xfrm>
            <a:off x="2422800" y="144144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直线和射线都可以无限延伸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2643840" y="70812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直线、射线与线段有什么区别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7212960" y="187308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线段可以量出长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"/>
          <p:cNvSpPr/>
          <p:nvPr/>
        </p:nvSpPr>
        <p:spPr>
          <a:xfrm>
            <a:off x="4738680" y="488304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线段有两个端点，直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没有端点，射线只有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方正楷体简体"/>
              </a:rPr>
              <a:t>个端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0"/>
          <p:cNvSpPr/>
          <p:nvPr/>
        </p:nvSpPr>
        <p:spPr>
          <a:xfrm>
            <a:off x="5724360" y="1773360"/>
            <a:ext cx="3098880" cy="718920"/>
          </a:xfrm>
          <a:prstGeom prst="wedgeRoundRectCallout">
            <a:avLst>
              <a:gd name="adj1" fmla="val -47342"/>
              <a:gd name="adj2" fmla="val 822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11"/>
          <p:cNvSpPr/>
          <p:nvPr/>
        </p:nvSpPr>
        <p:spPr>
          <a:xfrm>
            <a:off x="324000" y="1413000"/>
            <a:ext cx="4392360" cy="576000"/>
          </a:xfrm>
          <a:prstGeom prst="wedgeRoundRectCallout">
            <a:avLst>
              <a:gd name="adj1" fmla="val 777"/>
              <a:gd name="adj2" fmla="val 1061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13"/>
          <p:cNvSpPr/>
          <p:nvPr/>
        </p:nvSpPr>
        <p:spPr>
          <a:xfrm>
            <a:off x="3924360" y="4791240"/>
            <a:ext cx="3744720" cy="1368360"/>
          </a:xfrm>
          <a:prstGeom prst="wedgeRoundRectCallout">
            <a:avLst>
              <a:gd name="adj1" fmla="val -50078"/>
              <a:gd name="adj2" fmla="val -70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Box 3"/>
          <p:cNvSpPr/>
          <p:nvPr/>
        </p:nvSpPr>
        <p:spPr>
          <a:xfrm>
            <a:off x="795240" y="787320"/>
            <a:ext cx="6858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们认识过角，下面的图形都是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3"/>
          <p:cNvSpPr/>
          <p:nvPr/>
        </p:nvSpPr>
        <p:spPr>
          <a:xfrm>
            <a:off x="441360" y="4143240"/>
            <a:ext cx="9001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从一点引出两条射线所组成的图形叫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角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这个点叫做角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，这两条射线叫做角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3"/>
          <p:cNvSpPr/>
          <p:nvPr/>
        </p:nvSpPr>
        <p:spPr>
          <a:xfrm>
            <a:off x="439560" y="5267160"/>
            <a:ext cx="8643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角通常用符号“∠”来表示，上图的角可以记作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6"/>
          <p:cNvGrpSpPr/>
          <p:nvPr/>
        </p:nvGrpSpPr>
        <p:grpSpPr>
          <a:xfrm>
            <a:off x="1909800" y="2774880"/>
            <a:ext cx="1584360" cy="1368360"/>
            <a:chOff x="1909800" y="2774880"/>
            <a:chExt cx="1584360" cy="1368360"/>
          </a:xfrm>
        </p:grpSpPr>
        <p:sp>
          <p:nvSpPr>
            <p:cNvPr id="1087" name="Rectangle 2"/>
            <p:cNvSpPr/>
            <p:nvPr/>
          </p:nvSpPr>
          <p:spPr>
            <a:xfrm>
              <a:off x="1909800" y="3422520"/>
              <a:ext cx="1114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顶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"/>
            <p:cNvSpPr/>
            <p:nvPr/>
          </p:nvSpPr>
          <p:spPr>
            <a:xfrm>
              <a:off x="2700360" y="277488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"/>
            <p:cNvSpPr/>
            <p:nvPr/>
          </p:nvSpPr>
          <p:spPr>
            <a:xfrm>
              <a:off x="3060720" y="356688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558520" y="2642760"/>
            <a:ext cx="1080000" cy="1081080"/>
            <a:chOff x="2558520" y="2642760"/>
            <a:chExt cx="1080000" cy="1081080"/>
          </a:xfrm>
        </p:grpSpPr>
        <p:sp>
          <p:nvSpPr>
            <p:cNvPr id="1091" name="Line 14"/>
            <p:cNvSpPr/>
            <p:nvPr/>
          </p:nvSpPr>
          <p:spPr>
            <a:xfrm flipV="1">
              <a:off x="2558880" y="2642760"/>
              <a:ext cx="1079640" cy="108108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 rot="10800000">
              <a:off x="2558520" y="2642760"/>
              <a:ext cx="107964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558880" y="3724200"/>
            <a:ext cx="1584360" cy="360"/>
            <a:chOff x="2558880" y="3724200"/>
            <a:chExt cx="1584360" cy="360"/>
          </a:xfrm>
        </p:grpSpPr>
        <p:sp>
          <p:nvSpPr>
            <p:cNvPr id="1094" name="Line 16"/>
            <p:cNvSpPr/>
            <p:nvPr/>
          </p:nvSpPr>
          <p:spPr>
            <a:xfrm>
              <a:off x="2558880" y="3724200"/>
              <a:ext cx="1584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2558880" y="372420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Freeform 4"/>
          <p:cNvSpPr/>
          <p:nvPr/>
        </p:nvSpPr>
        <p:spPr>
          <a:xfrm>
            <a:off x="4192560" y="1446120"/>
            <a:ext cx="1676520" cy="1219320"/>
          </a:xfrm>
          <a:custGeom>
            <a:avLst/>
            <a:gdLst/>
            <a:ahLst/>
            <a:rect l="l" t="t" r="r" b="b"/>
            <a:pathLst>
              <a:path w="1200" h="960">
                <a:moveTo>
                  <a:pt x="576" y="0"/>
                </a:moveTo>
                <a:lnTo>
                  <a:pt x="0" y="960"/>
                </a:lnTo>
                <a:lnTo>
                  <a:pt x="1200" y="960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5"/>
          <p:cNvSpPr/>
          <p:nvPr/>
        </p:nvSpPr>
        <p:spPr>
          <a:xfrm flipH="1">
            <a:off x="6622920" y="1430280"/>
            <a:ext cx="1306800" cy="1235160"/>
          </a:xfrm>
          <a:custGeom>
            <a:avLst/>
            <a:gdLst/>
            <a:ahLst/>
            <a:rect l="l" t="t" r="r" b="b"/>
            <a:pathLst>
              <a:path w="1200" h="960">
                <a:moveTo>
                  <a:pt x="576" y="0"/>
                </a:moveTo>
                <a:lnTo>
                  <a:pt x="0" y="960"/>
                </a:lnTo>
                <a:lnTo>
                  <a:pt x="1200" y="960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8"/>
          <p:cNvSpPr/>
          <p:nvPr/>
        </p:nvSpPr>
        <p:spPr>
          <a:xfrm>
            <a:off x="1155600" y="1819440"/>
            <a:ext cx="2362320" cy="6858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296" y="0"/>
                </a:moveTo>
                <a:lnTo>
                  <a:pt x="0" y="432"/>
                </a:lnTo>
                <a:lnTo>
                  <a:pt x="1488" y="432"/>
                </a:ln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9"/>
          <p:cNvSpPr/>
          <p:nvPr/>
        </p:nvSpPr>
        <p:spPr>
          <a:xfrm>
            <a:off x="2786040" y="3500280"/>
            <a:ext cx="214200" cy="21456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0"/>
                </a:moveTo>
                <a:cubicBezTo>
                  <a:pt x="42" y="14"/>
                  <a:pt x="42" y="41"/>
                  <a:pt x="42" y="78"/>
                </a:cubicBezTo>
              </a:path>
            </a:pathLst>
          </a:custGeom>
          <a:solidFill>
            <a:srgbClr val="ffffff"/>
          </a:solidFill>
          <a:ln w="255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3"/>
          <p:cNvSpPr/>
          <p:nvPr/>
        </p:nvSpPr>
        <p:spPr>
          <a:xfrm>
            <a:off x="2928960" y="3357720"/>
            <a:ext cx="27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598320" y="179280"/>
            <a:ext cx="2854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3"/>
          <p:cNvSpPr/>
          <p:nvPr/>
        </p:nvSpPr>
        <p:spPr>
          <a:xfrm>
            <a:off x="652320" y="428616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直线有：①  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射线有：③  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线段有：②  ④  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"/>
          <p:cNvSpPr/>
          <p:nvPr/>
        </p:nvSpPr>
        <p:spPr>
          <a:xfrm>
            <a:off x="500040" y="150012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下面的图形，哪些是直线？哪些是射线？哪些是线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10" descr="50"/>
          <p:cNvPicPr/>
          <p:nvPr/>
        </p:nvPicPr>
        <p:blipFill>
          <a:blip r:embed="rId8"/>
          <a:stretch/>
        </p:blipFill>
        <p:spPr>
          <a:xfrm>
            <a:off x="1000080" y="2643120"/>
            <a:ext cx="7493040" cy="107172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000080" y="3500280"/>
            <a:ext cx="56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"/>
          <p:cNvSpPr/>
          <p:nvPr/>
        </p:nvSpPr>
        <p:spPr>
          <a:xfrm>
            <a:off x="2143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3367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3"/>
          <p:cNvSpPr/>
          <p:nvPr/>
        </p:nvSpPr>
        <p:spPr>
          <a:xfrm>
            <a:off x="45100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"/>
          <p:cNvSpPr/>
          <p:nvPr/>
        </p:nvSpPr>
        <p:spPr>
          <a:xfrm>
            <a:off x="578628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3"/>
          <p:cNvSpPr/>
          <p:nvPr/>
        </p:nvSpPr>
        <p:spPr>
          <a:xfrm>
            <a:off x="693900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3"/>
          <p:cNvSpPr/>
          <p:nvPr/>
        </p:nvSpPr>
        <p:spPr>
          <a:xfrm>
            <a:off x="8143920" y="3571920"/>
            <a:ext cx="561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Box 3"/>
          <p:cNvSpPr/>
          <p:nvPr/>
        </p:nvSpPr>
        <p:spPr>
          <a:xfrm>
            <a:off x="642960" y="121428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数一数，下图中各有几个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643040" y="4010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7"/>
          <p:cNvGrpSpPr/>
          <p:nvPr/>
        </p:nvGrpSpPr>
        <p:grpSpPr>
          <a:xfrm>
            <a:off x="1214280" y="2223720"/>
            <a:ext cx="2428560" cy="1478520"/>
            <a:chOff x="1214280" y="2223720"/>
            <a:chExt cx="2428560" cy="1478520"/>
          </a:xfrm>
        </p:grpSpPr>
        <p:grpSp>
          <p:nvGrpSpPr>
            <p:cNvPr id="1126" name=""/>
            <p:cNvGrpSpPr/>
            <p:nvPr/>
          </p:nvGrpSpPr>
          <p:grpSpPr>
            <a:xfrm>
              <a:off x="2165040" y="3701880"/>
              <a:ext cx="1477800" cy="360"/>
              <a:chOff x="2165040" y="3701880"/>
              <a:chExt cx="1477800" cy="360"/>
            </a:xfrm>
          </p:grpSpPr>
          <p:sp>
            <p:nvSpPr>
              <p:cNvPr id="1127" name="Line 8"/>
              <p:cNvSpPr/>
              <p:nvPr/>
            </p:nvSpPr>
            <p:spPr>
              <a:xfrm flipH="1">
                <a:off x="2165040" y="3701880"/>
                <a:ext cx="147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165040" y="3701880"/>
                <a:ext cx="1477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214280" y="2504880"/>
              <a:ext cx="951120" cy="1196640"/>
              <a:chOff x="1214280" y="2504880"/>
              <a:chExt cx="951120" cy="1196640"/>
            </a:xfrm>
          </p:grpSpPr>
          <p:sp>
            <p:nvSpPr>
              <p:cNvPr id="1130" name="Line 9"/>
              <p:cNvSpPr/>
              <p:nvPr/>
            </p:nvSpPr>
            <p:spPr>
              <a:xfrm flipH="1" flipV="1">
                <a:off x="1214280" y="2504880"/>
                <a:ext cx="950760" cy="119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 rot="10800000">
                <a:off x="1214640" y="2504880"/>
                <a:ext cx="950760" cy="119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2165400" y="2223720"/>
              <a:ext cx="897120" cy="1477800"/>
              <a:chOff x="2165400" y="2223720"/>
              <a:chExt cx="897120" cy="1477800"/>
            </a:xfrm>
          </p:grpSpPr>
          <p:sp>
            <p:nvSpPr>
              <p:cNvPr id="1133" name="Line 10"/>
              <p:cNvSpPr/>
              <p:nvPr/>
            </p:nvSpPr>
            <p:spPr>
              <a:xfrm flipV="1">
                <a:off x="2165400" y="2223720"/>
                <a:ext cx="897120" cy="147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 rot="10800000">
                <a:off x="2165400" y="2223720"/>
                <a:ext cx="897120" cy="14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Group 11"/>
          <p:cNvGrpSpPr/>
          <p:nvPr/>
        </p:nvGrpSpPr>
        <p:grpSpPr>
          <a:xfrm>
            <a:off x="4711680" y="2367000"/>
            <a:ext cx="2003040" cy="1350720"/>
            <a:chOff x="4711680" y="2367000"/>
            <a:chExt cx="2003040" cy="1350720"/>
          </a:xfrm>
        </p:grpSpPr>
        <p:sp>
          <p:nvSpPr>
            <p:cNvPr id="1136" name="AutoShape 12"/>
            <p:cNvSpPr/>
            <p:nvPr/>
          </p:nvSpPr>
          <p:spPr>
            <a:xfrm flipH="1">
              <a:off x="4713120" y="2367000"/>
              <a:ext cx="2001600" cy="135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4711680" y="2367000"/>
              <a:ext cx="1502640" cy="1350720"/>
              <a:chOff x="4711680" y="2367000"/>
              <a:chExt cx="1502640" cy="1350720"/>
            </a:xfrm>
          </p:grpSpPr>
          <p:sp>
            <p:nvSpPr>
              <p:cNvPr id="1138" name="Line 13"/>
              <p:cNvSpPr/>
              <p:nvPr/>
            </p:nvSpPr>
            <p:spPr>
              <a:xfrm flipH="1" flipV="1">
                <a:off x="4711680" y="2367000"/>
                <a:ext cx="1502280" cy="135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 txBox="1"/>
              <p:nvPr/>
            </p:nvSpPr>
            <p:spPr>
              <a:xfrm rot="10800000">
                <a:off x="4712040" y="2367000"/>
                <a:ext cx="1502280" cy="135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TextBox 3"/>
          <p:cNvSpPr/>
          <p:nvPr/>
        </p:nvSpPr>
        <p:spPr>
          <a:xfrm>
            <a:off x="5000760" y="4152960"/>
            <a:ext cx="134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34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